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6BD-D242-4747-A755-E5BD8142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2A3-2427-41A2-BA7D-A5798FD1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306-6364-4B9D-A9A2-59B19AFE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5EC-D573-4CD8-A044-C849A88A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F5F8-E7F3-49ED-9F34-54B713F1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7B08-399B-47D8-8986-AC49211E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3DB1-5619-4EA5-9269-95DD2AB5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05EE-3FAC-4652-8336-6B550729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F314-DB5F-484D-BD58-CEC0C7B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EFCD-8056-4BF5-99F5-CA2792EE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D0DB-8AA2-4E85-957B-97783F3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CE9-8516-45A0-A331-8A44FB56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701F-232E-4698-A6DF-065E3A0E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AD92-F540-4B50-8139-6FA64051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3223-547E-461A-AA8C-5DE33587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BA1A-E8D8-4F97-BA6C-D59F574C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C4F1-77C5-4BE1-885E-39BFE275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96D8-C2F8-44EB-B0D2-7E5D6B71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C582-C8F6-43BD-AE6C-68B02CAF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E5B2-5D1D-46DB-B046-EEE531F6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54EB-B270-4920-925E-1DEF8FE5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AD48-F724-496C-B161-F21EC66A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F36-616B-446F-A991-F06E2181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8B78-FB6E-4B4B-99F2-79878431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5EF8-6F68-4E2E-8496-AC50931A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96C2-D8AB-499F-82EB-E3485EBB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37A5-DE41-4089-8E05-FBFC1E24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1E56-757B-409B-BB8D-A331541F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87CD-F5E9-4EAD-A1E3-2D48EB19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345B-3696-48B4-B1CF-79EAA706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74F2D-2308-4EEA-B025-BAAB86FD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530F-D462-4FEF-9B2D-A3AA6141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A3860-7CD6-410C-8000-2BAB6582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079-8338-4D64-BE1E-F1780F8F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0F94-97E1-48AA-AC91-6BF3FCA6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CC122-8942-4F70-907F-C5ADDD9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D650-F8E1-4AFF-B749-D3E1ACA7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2432-35A1-4C01-93F0-B915BA04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495A5-BDAA-477E-83FF-4F22041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1734-8F21-42DD-A6BB-99C0940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4790-128E-4B86-9D4C-DAB65C23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3835-D719-4C9B-B270-9996CC71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4D25-B98E-45D9-AE56-E304F6F3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EC164-4233-4CCE-8A96-B4EC4D76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DBA-2E8F-4188-9777-EFE5DB3D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39CA-BD62-4935-9F96-D04F3B02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DDFC-2F28-4E58-B187-C7328AD3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ECDFC-2ED5-4583-BDC8-7E58F8B9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459D0-11BF-4ACF-8007-D3C13CF4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EB3F5-99A6-41B2-8B57-C15B4080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B97F-D636-4DB2-98BF-01D83DAD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AC0CB-7289-42DB-9E8E-02C21AF1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3C911-E949-4786-8114-5BAAD40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237DC-D6EE-4DDC-93F8-51CDFA26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FF2B-717B-412F-8F89-8393FE6C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22C-BCC4-4350-8E6F-1D882302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8259E-E985-4EEC-93A8-2CC7A29C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55C-5AC8-46B2-ADBF-9C4834F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577-0DB1-4AB2-BFB6-F3290A6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E07-E0D6-41AB-A3DF-3A28BD35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341B-7ADA-49C8-AB70-9CDABEFF3A09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C496-2A39-4319-8300-A7127863FADD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2E34-3206-4CD2-83F3-572A60763C1F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222E-7A57-41A9-A014-A23AE9A57F1B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C117-DC32-4DD0-9A2E-4825D4C05316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920" y="56386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ункция </a:t>
            </a: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«математический портрет» закономерностей природы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  Так ли это? </a:t>
            </a:r>
            <a:endParaRPr b="0" lang="en-US" sz="2900" spc="-1" strike="noStrike">
              <a:solidFill>
                <a:srgbClr val="495a74"/>
              </a:solidFill>
              <a:latin typeface="Calibri"/>
            </a:endParaRPr>
          </a:p>
        </p:txBody>
      </p:sp>
      <p:pic>
        <p:nvPicPr>
          <p:cNvPr id="258" name="Подзаголовок 4" descr=""/>
          <p:cNvPicPr/>
          <p:nvPr/>
        </p:nvPicPr>
        <p:blipFill>
          <a:blip r:embed="rId1"/>
          <a:stretch/>
        </p:blipFill>
        <p:spPr>
          <a:xfrm>
            <a:off x="1523880" y="324000"/>
            <a:ext cx="6791400" cy="113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j0250467"/>
          <p:cNvPicPr/>
          <p:nvPr/>
        </p:nvPicPr>
        <p:blipFill>
          <a:blip r:embed="rId2"/>
          <a:stretch/>
        </p:blipFill>
        <p:spPr>
          <a:xfrm>
            <a:off x="3352680" y="1447920"/>
            <a:ext cx="3033720" cy="2733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Monotype Corsiva"/>
              </a:rPr>
              <a:t>Использованная литература:</a:t>
            </a:r>
            <a:endParaRPr b="0" lang="en-US" sz="48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и функций: Справочник / Вирченко Н. А., Ляшко И. И., Швецов К. И. – Киев: Наук. Думка, 1979. – 320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и графики: Дидактические материалы по курсу алгебры и начала анализа для 10-11 кл. ср. шк. / Под ред. М. И. Башмакова. – СПб, 1998, - 96 с.: 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Халуева Математическое кафе. «Функция. Преобразование графиков». / газета «Математика» №89 2002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Н. Антинов, О. П. Боковнев Выделение области координатной плоскости. / журнал «Математика в школе» №5 2001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extBox 1" descr=""/>
          <p:cNvPicPr/>
          <p:nvPr/>
        </p:nvPicPr>
        <p:blipFill>
          <a:blip r:embed="rId1"/>
          <a:stretch/>
        </p:blipFill>
        <p:spPr>
          <a:xfrm>
            <a:off x="652320" y="2030400"/>
            <a:ext cx="8510760" cy="1382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extBox 5" descr=""/>
          <p:cNvPicPr/>
          <p:nvPr/>
        </p:nvPicPr>
        <p:blipFill>
          <a:blip r:embed="rId1"/>
          <a:stretch/>
        </p:blipFill>
        <p:spPr>
          <a:xfrm>
            <a:off x="1206360" y="646200"/>
            <a:ext cx="7851960" cy="418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2971800" cy="2268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3366"/>
                </a:solidFill>
                <a:latin typeface="Monotype Corsiva"/>
              </a:rPr>
              <a:t>Цель: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143000" y="1066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где же встречается функциональная зависимость в окружающем нас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143000" y="2362320"/>
            <a:ext cx="746748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3366"/>
                </a:solidFill>
                <a:latin typeface="Monotype Corsiva"/>
              </a:rPr>
              <a:t>Задача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имеры функциональной зависимости в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3366"/>
                </a:solidFill>
                <a:latin typeface="Monotype Corsiva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2590920" cy="2282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62080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5335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Monotype Corsiva"/>
              </a:rPr>
              <a:t>Ход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нформа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нформа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384804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66320" y="380520"/>
            <a:ext cx="7867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Monotype Corsiva"/>
              </a:rPr>
              <a:t>Примеры использования фун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1920" indent="-257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медицин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1920" indent="-257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, исследующий больного, может по кардиограмме судить о нарушениях серде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735360" cy="220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95280" y="45684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природе и техник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гарифмическ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ир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 rot="181800">
            <a:off x="5162400" y="1277640"/>
            <a:ext cx="2286000" cy="22273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2666880" y="3733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2160360" cy="20206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6"/>
          <p:cNvSpPr/>
          <p:nvPr/>
        </p:nvSpPr>
        <p:spPr>
          <a:xfrm>
            <a:off x="3101400" y="388620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66"/>
                </a:solidFill>
                <a:latin typeface="Monotype Corsiva"/>
                <a:ea typeface="Times New Roman"/>
              </a:rPr>
              <a:t>В техн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01032009"/>
          <p:cNvPicPr/>
          <p:nvPr/>
        </p:nvPicPr>
        <p:blipFill>
          <a:blip r:embed="rId3"/>
          <a:srcRect l="0" t="0" r="17970" b="0"/>
          <a:stretch/>
        </p:blipFill>
        <p:spPr>
          <a:xfrm>
            <a:off x="6553080" y="3886200"/>
            <a:ext cx="2144880" cy="1887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8"/>
          <p:cNvSpPr/>
          <p:nvPr/>
        </p:nvSpPr>
        <p:spPr>
          <a:xfrm>
            <a:off x="4876920" y="5562720"/>
            <a:ext cx="211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66"/>
                </a:solidFill>
                <a:latin typeface="Monotype Corsiva"/>
              </a:rPr>
              <a:t>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066320" y="609480"/>
            <a:ext cx="780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Учены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76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-сейсмолог, анализируя сейсмограмму, узнает, когда было землетрясение, где оно произошло, определяет силу и характер толч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3205080" cy="2362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2"/>
          <a:stretch/>
        </p:blipFill>
        <p:spPr>
          <a:xfrm>
            <a:off x="5105520" y="3330720"/>
            <a:ext cx="3352680" cy="238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990360" y="304560"/>
            <a:ext cx="7499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220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литератур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20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Monotype Corsiva"/>
                <a:ea typeface="Times New Roman"/>
              </a:rPr>
              <a:t>«Чем дальше в лес, тем больше др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20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Рисунок 4" descr=""/>
          <p:cNvPicPr/>
          <p:nvPr/>
        </p:nvPicPr>
        <p:blipFill>
          <a:blip r:embed="rId1"/>
          <a:srcRect l="46980" t="34488" r="2835" b="3034"/>
          <a:stretch/>
        </p:blipFill>
        <p:spPr>
          <a:xfrm>
            <a:off x="1295280" y="1905120"/>
            <a:ext cx="2981520" cy="27432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5"/>
          <p:cNvSpPr/>
          <p:nvPr/>
        </p:nvSpPr>
        <p:spPr>
          <a:xfrm>
            <a:off x="1219320" y="50292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афике показано, как нарастает количество дров по мере продвижения в глубь леса - от опушки до чащо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6" descr=""/>
          <p:cNvPicPr/>
          <p:nvPr/>
        </p:nvPicPr>
        <p:blipFill>
          <a:blip r:embed="rId2"/>
          <a:srcRect l="25333" t="31055" r="25120" b="10709"/>
          <a:stretch/>
        </p:blipFill>
        <p:spPr>
          <a:xfrm>
            <a:off x="5410080" y="1905120"/>
            <a:ext cx="294336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Monotype Corsiva"/>
              </a:rPr>
              <a:t>Выводы:</a:t>
            </a:r>
            <a:endParaRPr b="0" lang="en-US" sz="48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b4453"/>
                </a:solidFill>
                <a:latin typeface="Calibri"/>
              </a:rPr>
              <a:t>В ходе моей работы я установил, что  это далеко не все сферы, где можно использовать графики функций. Наука неисчерпаема, но этим она и интересна. Познание её приносит человеку настоящую, ни в чем несравнимую рад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kсанkа</dc:creator>
  <dc:description/>
  <dc:language>en-US</dc:language>
  <cp:lastModifiedBy>Оксана</cp:lastModifiedBy>
  <dcterms:modified xsi:type="dcterms:W3CDTF">2010-05-24T06:59:34Z</dcterms:modified>
  <cp:revision>53</cp:revision>
  <dc:subject/>
  <dc:title>Солнце, вода, тепло-это энергия?</dc:title>
</cp:coreProperties>
</file>